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ct" ContentType="image/x-pict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F66F-2F7F-4460-AC8A-F5DBFFF16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rd grade feature artic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th grad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th grad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rd grade feature artic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th grad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th grad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8B2-5CB6-46AB-A43F-CF557221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C02-FD27-4186-99E3-66C34EC7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EC8-DAC2-4DD1-9D7B-450ED469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886-6534-4AD9-A417-9D35873F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1D10-CB28-47DC-8935-ACF82D0C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A5CC-66BE-4FD2-A0CE-C7C6A7D1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43F8-0312-4198-8F54-A87EE158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74E2-AA54-42F8-9854-486E5059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B486-8950-464F-BE60-ABF85DC7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D499-4AF3-4019-808C-0B234B31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C4F9-D5EB-4C65-A7CB-C30067EA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782-4F48-4390-BEE9-CDF9725B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BCDD-65D3-4512-923D-E3EA0F86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0DA2-004A-40E0-869C-4313508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C3DF-51CF-40BB-AC33-D589086A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FFF0-0D9B-4683-9A71-54790600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CF0B-2DF4-4F58-9574-BB90BE6E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AC0-3E34-4342-AFEB-D0FCDDA8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2F4-6441-418C-8C6B-32C2798E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AC0-0DC3-4288-94AA-39DE754C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084-1D67-4E07-B5EE-326236DF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74B-2D61-43F4-8101-7CEA50DF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AFA-9B60-4291-922C-78553E46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2A9-353C-4A11-B809-B29CABD7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6CCB-6367-4B50-A73D-5A8A242765E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48B6-1353-40A7-A7E4-E8971EA33C7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Palatino"/>
              </a:rPr>
              <a:t>FEATURE ARTIC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428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021"/>
                </a:solidFill>
                <a:latin typeface="Palatino"/>
              </a:rPr>
              <a:t>The Writing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720" y="59151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F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2230560"/>
            <a:ext cx="8381880" cy="4627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33720" y="152280"/>
            <a:ext cx="66294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Does this articl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Sound like the author is talking to the read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Entertain: seem funn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Cause a rea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Explain someth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021"/>
                </a:solidFill>
                <a:latin typeface="Palatino"/>
              </a:rPr>
              <a:t>As you read through your feature articles, look for a good example of a conversational or entertaining writing style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495680"/>
            <a:ext cx="739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Palatino"/>
              </a:rPr>
              <a:t>I will ask you to share your examples with the clas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Palatino"/>
              </a:rPr>
              <a:t>We know about the physical characteristics of feature articles!</a:t>
            </a:r>
            <a:r>
              <a:rPr b="0" lang="en-US" sz="2800" spc="-1" strike="noStrike">
                <a:solidFill>
                  <a:srgbClr val="ff8000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subheadings/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pi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ca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colum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title (word pl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other graph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(charts, maps, lists, graphs, timelines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181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Palatino"/>
              </a:rPr>
              <a:t>Let’s read this article.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Palatino"/>
              </a:rPr>
              <a:t>continu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655344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021"/>
                </a:solidFill>
                <a:latin typeface="Palatino"/>
              </a:rPr>
              <a:t>What did you think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04812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Did you get information (facts)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Did you notice other writing strategies 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           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we have learned (lead, conclusion, 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‘show not tell’, etc.)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What about the way it was writte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752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Palatino"/>
              </a:rPr>
              <a:t>Let’s think about this article.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Palatino"/>
              </a:rPr>
              <a:t>What did you notic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153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Palatino"/>
              </a:rPr>
              <a:t>Feature Article Writers Use A </a:t>
            </a:r>
            <a:br>
              <a:rPr sz="3200"/>
            </a:br>
            <a:r>
              <a:rPr b="0" lang="en-US" sz="3200" spc="-1" strike="noStrike">
                <a:solidFill>
                  <a:srgbClr val="ff8000"/>
                </a:solidFill>
                <a:latin typeface="Palatino"/>
              </a:rPr>
              <a:t>Conversational, Entertaining Writing Style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To catch and keep the readers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To entertain  (often fun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To cause a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To explain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Sometimes sounds like the author is selling something (like a commer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CAUSES A REACTION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657600"/>
            <a:ext cx="4952880" cy="2286000"/>
            <a:chOff x="990720" y="3657600"/>
            <a:chExt cx="4952880" cy="2286000"/>
          </a:xfrm>
        </p:grpSpPr>
        <p:sp>
          <p:nvSpPr>
            <p:cNvPr id="105" name=""/>
            <p:cNvSpPr/>
            <p:nvPr/>
          </p:nvSpPr>
          <p:spPr>
            <a:xfrm>
              <a:off x="990720" y="4114800"/>
              <a:ext cx="4952880" cy="1828800"/>
            </a:xfrm>
            <a:prstGeom prst="cloudCallout">
              <a:avLst>
                <a:gd name="adj1" fmla="val -36953"/>
                <a:gd name="adj2" fmla="val 533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4240" y="3657600"/>
              <a:ext cx="373356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f021"/>
                  </a:solidFill>
                  <a:latin typeface="Palatino"/>
                </a:rPr>
                <a:t>Think and questio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lvl="1" marL="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lvl="1" marL="45720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Palatino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Palatino"/>
                  <a:ea typeface="ＭＳ Ｐゴシック"/>
                </a:rPr>
                <a:t>“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Palatino"/>
                  <a:ea typeface="ＭＳ Ｐゴシック"/>
                </a:rPr>
                <a:t>I never thought of that?, Why does that happen? That does not seem right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143000" y="1752480"/>
            <a:ext cx="5714640" cy="1752480"/>
            <a:chOff x="1143000" y="1752480"/>
            <a:chExt cx="5714640" cy="17524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4372920" y="1752480"/>
              <a:ext cx="24847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43000" y="1752480"/>
              <a:ext cx="322992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f021"/>
                  </a:solidFill>
                  <a:latin typeface="Palatino"/>
                </a:rPr>
                <a:t>Makes the reader feel something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f021"/>
                  </a:solidFill>
                  <a:latin typeface="Palatino"/>
                  <a:ea typeface="ＭＳ Ｐゴシック"/>
                </a:rPr>
                <a:t>…</a:t>
              </a:r>
              <a:r>
                <a:rPr b="0" lang="en-US" sz="2400" spc="-1" strike="noStrike">
                  <a:solidFill>
                    <a:srgbClr val="eef021"/>
                  </a:solidFill>
                  <a:latin typeface="Palatino"/>
                  <a:ea typeface="ＭＳ Ｐゴシック"/>
                </a:rPr>
                <a:t>sad, happy, etc.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Feature Article Writers </a:t>
            </a:r>
            <a:br>
              <a:rPr sz="4000"/>
            </a:b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Want To Explain Thing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Readers like to have facts explained, so feature writers give us facts and explain why they are important.  This adds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61040" y="1981080"/>
            <a:ext cx="258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Look for the characteristics of conversational writing style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91320" y="19810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Does this artic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Sound like the author is talking to the r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Entertain: seem fun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Cause a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Explain some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1814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4:38:51Z</dcterms:created>
  <dc:creator>AAPS</dc:creator>
  <dc:description/>
  <dc:language>en-US</dc:language>
  <cp:lastModifiedBy>AAPS</cp:lastModifiedBy>
  <cp:lastPrinted>2005-10-17T16:59:09Z</cp:lastPrinted>
  <dcterms:modified xsi:type="dcterms:W3CDTF">2005-10-20T01:36:33Z</dcterms:modified>
  <cp:revision>19</cp:revision>
  <dc:subject/>
  <dc:title>FEATURE ARTICLES</dc:title>
</cp:coreProperties>
</file>